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49FA-A5C4-49C1-A00F-21A0FD7740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9C77-EFB1-4E04-857F-B356F3A7C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хеме собраны почти все варианты  названий трех уровней распределенного приложения. Чтобы избежать путаницы, будем именовать уровни так: 1st tier, 2nd tier и 3rd tier, по причине краткости написания. Выбирать названия по другим критериям слишком сложно. 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076E-8478-4D44-A0C6-0C211C9C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C116-C0FD-4665-B390-6154379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8F6B-19DB-4C65-B895-6349E8CD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CAE4-549C-48A1-9489-66054A8E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2874-F508-4372-984C-E6720B5A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5A4F-F14A-4A0C-B545-DF299606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B099-432B-4DC9-BAD8-6BACB544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25CF-3F4F-4B5F-BB10-8219D7E2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A423-D87C-4345-963E-D4137E4D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ECA6-D09E-41F4-85B5-DF971F1A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F9CE-B0F9-4FFF-A734-11DEADEA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7D12-87EA-4A04-890E-235588AB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9719-D0F3-4BF7-9078-D25AE777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895B-CF40-4F5B-8F7B-1D62560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5850-C7A0-4A1C-B910-27FA22DB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160C-4CA7-4710-B81F-654B0FD5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AC84-3B22-4F61-9A9E-888B00E0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B37A-7C2C-4929-9A63-46E4F4FE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897D-620F-4CA1-BFB6-A6E10361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BD07-A63E-4AAA-A38A-49DC10AE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4425-DEC6-4862-AB57-CA628A19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4983-9CA5-49B6-9B6A-D327F2DC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F780-F9E5-42A5-B7D5-D80F50C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14F2-3848-4606-90B4-53D79FB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45B-41D7-4639-8771-E0A67239D7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3A10-2F95-41D2-9150-DD567F1477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дели клиент-серве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х уровневая модель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ая модель (идеальная и фактическа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ципы построения клиент серверных приложений при использовании двух- 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ой модели построения прилож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(идеальны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94172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Такой подход позволяет четко очертить границы уровня бизнес-логики и отличие 3-х уровневого подхода от 2-х уровневого (клиент-сер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net184_5"/>
          <p:cNvPicPr/>
          <p:nvPr/>
        </p:nvPicPr>
        <p:blipFill>
          <a:blip r:embed="rId1"/>
          <a:stretch/>
        </p:blipFill>
        <p:spPr>
          <a:xfrm>
            <a:off x="900000" y="1844640"/>
            <a:ext cx="6912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8360" y="3789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ктике, мы имеем нечто подобное. По различным причинам бизнес-логика остается на 1st и 3rd tier. Это может быть оправдано, если не приведет к перегрузке уровня, на котором находится ненормированный код. И если этот код легко можно перенести в 2nd tier объекты. Например,  поместив бизнес-логику в хранимые процедуры в 3rd tier, мы можем получить большой выигрыш в производительности. Если же эти хранимые процедуры написаны в виде внешних модулей на высокоуровневом языке, то перенести их в 2nd tier будет несложно. А вот бизнес-логика на 1st tier распространена повсеместно (как уже упоминалось), и, обычно, связана с неудачной архите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net184_5"/>
          <p:cNvPicPr/>
          <p:nvPr/>
        </p:nvPicPr>
        <p:blipFill>
          <a:blip r:embed="rId1"/>
          <a:stretch/>
        </p:blipFill>
        <p:spPr>
          <a:xfrm>
            <a:off x="2484360" y="1557360"/>
            <a:ext cx="3745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х 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ый уровень распределенного приложения может взаимодействовать только со смежным уровн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: 1st tier не должен иметь прямого доступа к 3rd tier и наоборот; 2nd и 3rd tiers не должны иметь прямого интерфейса с пользователем; обращение к источнику данных из 1st tier происходит только через объекты 2-nd t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ся сложная бизнес-логика находится в объектах 2nd tier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же упоминалось, это условие часто нарушается, снижая возможность масштабирования. Хотя подобные решения иногда оправд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заимодействие уровней организовано так, чтобы они могли взаимодействовать по сети, находясь физически на различных  компьютер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распределенная архитектура не зависит от способа развертывания (deployment) приложения - все уровни могут быть размещены физически как одном компьютере, так и на разных, в условиях заданной сетевой струк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ущности данных  независимы от способа их хранения,  уникально идентифицируемы по какому-либо ключу, и независимы от способа и места хранения других сущносте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, в частности, иногда означает отсутствие в некоторых таблицах связей по внешним ключам, что позволяет хранить группы таблиц, имеющих отношение к одной сущности, в разных базах данных. Однако тогда необходимо отслеживать целостность данных дополнительным кодом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Уровни клиент-серверной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upload.wikimedia.org/wikipedia/commons/thumb/5/51/Overview_of_a_three-tier_application_vectorVersion.svg/400px-Overview_of_a_three-tier_application_vectorVersion.svg.png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рхитектура клиент-сервер, совсем недавно считавшаяся сложной средой, постепенно превратилась в исключительно сложную среду. Почему? Благодаря ускоренному, переходу к использованию в конструкции систем клиент-сервер нескольких звень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ри разработке систем клиент-сервер используются только два звена - клиент и сервер. В двухзвенной системе большую часть логики программы разработчики помещают на системе клиента, используя сервер только для обслуживания данных. Этот тип конфигурации известен также, как модель "толстый клиент - тонкий серве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inet184_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81080" y="1600200"/>
            <a:ext cx="532944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84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ической архитектуре клиент-сервер, бизнес-логика может располагаться как на стороне  клиента, так и на сервере. В результате существует тенденция смешивания бизнес-логики с интерфейсом пользователя и/или со структурой Б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отя двухзвенные программы клиент-сервер просты в понимании, построении и обслуживании, эту модель невозможно масштабировать до уровня предприятия. Иными словами, двухзвенная архитектура не может обеспечивать работу тысяч пользователей с программами, установленными на предприятии, и в результате для этих целей применяются большие ЭВ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 чтобы обеспечить работу при столь больших вычислительных нагрузках, разработчики освоили применение трех- или многозвенной архитектуры. Это означает, что программа клиент- сервер распределяется по дополнительным процессорам или звеньям, обеспечивающих дополнительную вычислительную мощ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net184_2"/>
          <p:cNvPicPr/>
          <p:nvPr/>
        </p:nvPicPr>
        <p:blipFill>
          <a:blip r:embed="rId1"/>
          <a:stretch/>
        </p:blipFill>
        <p:spPr>
          <a:xfrm>
            <a:off x="1295280" y="1752480"/>
            <a:ext cx="64803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хеме на предыдущем слайде собраны почти все варианты  названий трех уровней распределенного прило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бы избежать путаницы, будем именовать уровни так: 1st tier, 2nd tier и 3rd tier, по причине краткости напис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бирать названия по другим критериям слишком слож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уровня (с позиции программирования) - это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хранение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обработка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представлени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я заключается в том, чтобы не смешивать эти три составляющ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вый подход - это просто хороший стиль программирования. Его можно применять при разработки практически любых приложе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изна же и идея распределенных приложений в том, чтобы иметь возможность распределить эти три уровня физически на различных компьютерах, а также возможность иметь несколько взаимозаменяемых вариантов каждого уровня.  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(идеальны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inet184_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66680" y="182880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ой подход позволяет четко очертить границы уровня бизнес-логики и отличие 3-х уровневого подхода от 2-х уровневого (клиент-серве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stov Dmitrii</cp:lastModifiedBy>
  <dcterms:modified xsi:type="dcterms:W3CDTF">2013-02-27T03:33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